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BC17-D656-4C2C-B1B9-096518C2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F6F-ABAC-45D9-8BC1-916B7181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A24-FFA2-49BA-B996-0C2D5D81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98B4-2991-464B-825F-F49883E4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2329-5017-4D89-A354-2A5DD238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5B20-2007-4159-9565-8209AB9A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2DA5-2FF7-44DC-8267-51DFE20B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BD7D-2D85-43A6-9B00-383E5265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94CF-7E74-487F-8345-B0DBDC78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2D71-0C2B-40B1-8E80-FEF91330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A2BF-B955-4717-85B7-CC1B5183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9D5-8045-48C0-BB78-A8E77C2B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1696-6CC5-45FC-9130-2CA0F52D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54F0-FA34-442D-95ED-D4DEEEA7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0697-4BBD-47A5-BB6D-B4DE0045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3877-1824-44EB-BDEB-BED4C7E4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0623-DCCB-4553-8A30-98958AFC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188-E580-429C-99AF-F60E96F0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677-0C77-46E2-91A8-E90D7F89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2EB2-81C8-47E6-B686-0122825F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104-CE71-47D6-BDDD-D123B462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0BB-BE31-413B-94ED-B87BB2E3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B7E-61D2-4FFD-9BCE-01DA61B4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8B18-7D27-4B7F-94F5-48FE2261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468a4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f0e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F9BF-48C9-4631-A813-3C50A7CBE95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e3ebf1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e3ebf1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3ebf1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3ebf1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3A27-1DBB-4BC0-AD2A-2FD162D4E63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468a4b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f0e5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3ebf1"/>
                </a:solidFill>
                <a:uFillTx/>
                <a:latin typeface="Monotype Corsiva"/>
              </a:rPr>
              <a:t>Special &amp; Vulnerab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Global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Sea Lev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6:12:31Z</dcterms:created>
  <dc:creator>PA Department of Education</dc:creator>
  <dc:description/>
  <dc:language>en-US</dc:language>
  <cp:lastModifiedBy>PA Department of Education</cp:lastModifiedBy>
  <dcterms:modified xsi:type="dcterms:W3CDTF">2009-05-21T16:39:36Z</dcterms:modified>
  <cp:revision>1</cp:revision>
  <dc:subject/>
  <dc:title>Special &amp; Vulnerable</dc:title>
</cp:coreProperties>
</file>